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1.xml.rels" ContentType="application/vnd.openxmlformats-package.relationships+xml"/>
  <Override PartName="/ppt/slides/_rels/slide211.xml.rels" ContentType="application/vnd.openxmlformats-package.relationships+xml"/>
  <Override PartName="/ppt/slides/_rels/slide159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13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214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0.xml.rels" ContentType="application/vnd.openxmlformats-package.relationships+xml"/>
  <Override PartName="/ppt/slides/_rels/slide210.xml.rels" ContentType="application/vnd.openxmlformats-package.relationships+xml"/>
  <Override PartName="/ppt/slides/_rels/slide158.xml.rels" ContentType="application/vnd.openxmlformats-package.relationships+xml"/>
  <Override PartName="/ppt/slides/_rels/slide45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21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218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8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50.xml.rels" ContentType="application/vnd.openxmlformats-package.relationships+xml"/>
  <Override PartName="/ppt/slides/_rels/slide55.xml.rels" ContentType="application/vnd.openxmlformats-package.relationships+xml"/>
  <Override PartName="/ppt/slides/_rels/slide51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70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7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149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79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43.xml.rels" ContentType="application/vnd.openxmlformats-package.relationships+xml"/>
  <Override PartName="/ppt/slides/_rels/slide223.xml.rels" ContentType="application/vnd.openxmlformats-package.relationships+xml"/>
  <Override PartName="/ppt/slides/_rels/slide207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42.xml.rels" ContentType="application/vnd.openxmlformats-package.relationships+xml"/>
  <Override PartName="/ppt/slides/_rels/slide222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21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205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3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222.xml" ContentType="application/vnd.openxmlformats-officedocument.presentationml.slide+xml"/>
  <Override PartName="/ppt/slides/slide213.xml" ContentType="application/vnd.openxmlformats-officedocument.presentationml.slide+xml"/>
  <Override PartName="/ppt/slides/slide2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223.xml" ContentType="application/vnd.openxmlformats-officedocument.presentationml.slide+xml"/>
  <Override PartName="/ppt/slides/slide30.xml" ContentType="application/vnd.openxmlformats-officedocument.presentationml.slide+xml"/>
  <Override PartName="/ppt/slides/slide214.xml" ContentType="application/vnd.openxmlformats-officedocument.presentationml.slide+xml"/>
  <Override PartName="/ppt/slides/slide2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15.xml" ContentType="application/vnd.openxmlformats-officedocument.presentationml.slide+xml"/>
  <Override PartName="/ppt/slides/slide216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51.xml" ContentType="application/vnd.openxmlformats-officedocument.presentationml.slide+xml"/>
  <Override PartName="/ppt/slides/slide220.xml" ContentType="application/vnd.openxmlformats-officedocument.presentationml.slide+xml"/>
  <Override PartName="/ppt/slides/slide52.xml" ContentType="application/vnd.openxmlformats-officedocument.presentationml.slide+xml"/>
  <Override PartName="/ppt/slides/slide219.xml" ContentType="application/vnd.openxmlformats-officedocument.presentationml.slide+xml"/>
  <Override PartName="/ppt/slides/slide136.xml" ContentType="application/vnd.openxmlformats-officedocument.presentationml.slide+xml"/>
  <Override PartName="/ppt/slides/slide221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212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11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210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B8B7-B74A-4262-91CE-F480ECDF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214-A05A-4004-AE16-B6E829CA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694-0682-4323-8C64-F90413DC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E5E-E928-4710-BA7C-85F54027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73C9-6E41-4EEE-97E0-9A420744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697E-C4C4-4ABD-ABD3-2592D62E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6747-C011-4F46-B70C-62F87B64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F588-3A89-4BF3-8D76-837CFF42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E7FD-051E-4FF1-AA56-7F9AF14C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075E-3B18-4F72-B357-9D7E36B9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57D3-9DF5-4FCE-BB12-A66828A1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D92-995A-4F16-A8E8-B743E800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8E91-393C-43C7-BABB-C544D72A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B7B8-7D89-484A-9E4A-EC42E563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5F7F-7B54-4316-BEF2-1C964033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DD98-8F5A-4CEC-902C-30A7CF3B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338A-0C6B-4548-8162-1D6DB060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FC26-BCC9-46B6-9E7D-C7F91B90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77C-5A0E-404D-8A27-116C07FA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AF0-D94B-4D43-902C-BF771F7B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05D-33F1-47CD-8CA0-171E788C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AE0-66E4-4295-A005-6C20C2E3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374-303B-4BFD-A125-3F2C041F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4CC-E550-4D8E-A2B3-AB7E0E2D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FDEB-236F-4346-91A3-0D5656526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1C44-D7DB-406A-83DA-176560CA6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Invention and Inno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R 7-2 Lesson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22200" y="62485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ten by Roland Willi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5238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ff0000"/>
                </a:solidFill>
                <a:latin typeface="Times New Roman"/>
              </a:rPr>
              <a:t>GO</a:t>
            </a:r>
            <a:endParaRPr b="0" lang="en-US" sz="2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Times New Roman"/>
              </a:rPr>
              <a:t>STOP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000000"/>
                </a:solidFill>
                <a:latin typeface="Times New Roman"/>
              </a:rPr>
              <a:t>Discuss the inventors and their inventions</a:t>
            </a:r>
            <a:endParaRPr b="0" lang="en-US" sz="8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ALEXANDER</a:t>
            </a:r>
            <a:br>
              <a:rPr sz="9200"/>
            </a:b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GRAHAM</a:t>
            </a:r>
            <a:br>
              <a:rPr sz="9200"/>
            </a:b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BELL</a:t>
            </a:r>
            <a:br>
              <a:rPr sz="9200"/>
            </a:br>
            <a:r>
              <a:rPr b="1" lang="en-US" sz="92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9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GEORGE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WASHINGTON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CARVER</a:t>
            </a:r>
            <a:br>
              <a:rPr sz="80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ANUT BUTTER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LEONARDO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DAVINCI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WALT</a:t>
            </a:r>
            <a:br>
              <a:rPr sz="9200"/>
            </a:b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DISNEY</a:t>
            </a:r>
            <a:br>
              <a:rPr sz="9200"/>
            </a:b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MULTIPLANE CAMERA</a:t>
            </a:r>
            <a:br>
              <a:rPr sz="6600"/>
            </a:b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MICKEY MOUS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br>
              <a:rPr sz="9200"/>
            </a:b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EDISON</a:t>
            </a:r>
            <a:br>
              <a:rPr sz="9200"/>
            </a:b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PHONOGRAPH</a:t>
            </a:r>
            <a:br>
              <a:rPr sz="8000"/>
            </a:b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LIGHTBULB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ALBERT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EINSTEIN</a:t>
            </a:r>
            <a:br>
              <a:rPr sz="10000"/>
            </a:b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TOMIC BOMB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HENRY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FOR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BENJAMIN</a:t>
            </a:r>
            <a:br>
              <a:rPr sz="9200"/>
            </a:b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FRANKLIN</a:t>
            </a:r>
            <a:br>
              <a:rPr sz="9200"/>
            </a:b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BIFOCALS</a:t>
            </a:r>
            <a:br>
              <a:rPr sz="6600"/>
            </a:b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LIGHTNING ROD</a:t>
            </a:r>
            <a:br>
              <a:rPr sz="6600"/>
            </a:b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ODOMETER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JOHANNES</a:t>
            </a: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GUTENBURG</a:t>
            </a:r>
            <a:br>
              <a:rPr sz="8800"/>
            </a:b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PRINTING PRES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LEWIS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LATIMER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SIR</a:t>
            </a:r>
            <a:br>
              <a:rPr sz="9200"/>
            </a:b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ISAAC</a:t>
            </a:r>
            <a:br>
              <a:rPr sz="9200"/>
            </a:b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NEWTON</a:t>
            </a:r>
            <a:br>
              <a:rPr sz="9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REFLECTING TELESCOPE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LEVI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STRAUSS</a:t>
            </a:r>
            <a:br>
              <a:rPr sz="10000"/>
            </a:b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BLUE JEAN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ELI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WHITNEY</a:t>
            </a:r>
            <a:br>
              <a:rPr sz="10000"/>
            </a:b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COTTON GIN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WILBUR &amp;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ORVILLE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WRIGHT</a:t>
            </a:r>
            <a:br>
              <a:rPr sz="10000"/>
            </a:b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AIRPLANE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On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inut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ril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219320" y="36576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ast time, Get ready!!!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ne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inute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ril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533520" y="2438280"/>
            <a:ext cx="822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 the hard part, pick one of your inventors and write down how his or her invention may have impacted the way people lived, worked, or produced thing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Times New Roman"/>
              </a:rPr>
              <a:t>READY</a:t>
            </a:r>
            <a:endParaRPr b="0" lang="en-US" sz="1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3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Times New Roman"/>
              </a:rPr>
              <a:t>SET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3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ff0000"/>
                </a:solidFill>
                <a:latin typeface="Times New Roman"/>
              </a:rPr>
              <a:t>GO</a:t>
            </a:r>
            <a:endParaRPr b="0" lang="en-US" sz="2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3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Big Ide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GR-II-1: Students will learn the concept of invention and innov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Times New Roman"/>
              </a:rPr>
              <a:t>STOP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000000"/>
                </a:solidFill>
                <a:latin typeface="Times New Roman"/>
              </a:rPr>
              <a:t>Discuss the impacts of their inventions</a:t>
            </a:r>
            <a:endParaRPr b="0" lang="en-US" sz="8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vention and Innovation Defini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6705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ording to the Merriam-Webster Dictionary online (2006)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inven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“something invented : as (1)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product of the imagination;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especiall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false conception (2)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device, contrivance, or process originated after study and experiment” (p. 1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m-w.com/dictionary/invention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3" name="Picture 4" descr="PE02481_"/>
          <p:cNvPicPr/>
          <p:nvPr/>
        </p:nvPicPr>
        <p:blipFill>
          <a:blip r:embed="rId1"/>
          <a:stretch/>
        </p:blipFill>
        <p:spPr>
          <a:xfrm>
            <a:off x="6705720" y="2133720"/>
            <a:ext cx="2214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vention and Innovation Defini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innovat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on the other hand, is “a new idea, method, or device” (Merriam-Webster, 2006, p. 1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m-w.com/dictionary/innov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Picture 4" descr="PE02481_"/>
          <p:cNvPicPr/>
          <p:nvPr/>
        </p:nvPicPr>
        <p:blipFill>
          <a:blip r:embed="rId1"/>
          <a:stretch/>
        </p:blipFill>
        <p:spPr>
          <a:xfrm>
            <a:off x="6705720" y="2133720"/>
            <a:ext cx="2214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ut Those Definitions are So Similar…?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 you can see by the Merriam-Webster definitions, there’s hardly a difference between an invention and an innovation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ut Those Definitions are So Similar…?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685800" y="1981080"/>
            <a:ext cx="7924680" cy="40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ever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echnology Design and Applicati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Wright, T. &amp; Brown,  R., 2004) offers a distinction stating that an invention i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new and unique product created by an inventor 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p. 703) whil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 innovation is “The process of altering an existing product or system to improve it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p. 702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our purposes we’ll use th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echnology Design and Applicati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definitio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ce is the study of the natural world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study our world by observing, identifying, describing, investigating, and explaining what they see and experien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tific study helps develop new cures for diseases, new products for consumers, and new ways to work and li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3" name="Picture 4" descr="BD07129_"/>
          <p:cNvPicPr/>
          <p:nvPr/>
        </p:nvPicPr>
        <p:blipFill>
          <a:blip r:embed="rId1"/>
          <a:stretch/>
        </p:blipFill>
        <p:spPr>
          <a:xfrm>
            <a:off x="4610160" y="2602080"/>
            <a:ext cx="377172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67080" y="121932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ology is not just compu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ology refers to human invention and innovation in actio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ology is the use of knowledge to turn resources into goods and services that extend our capability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6" name="Picture 4" descr="BD05153_"/>
          <p:cNvPicPr/>
          <p:nvPr/>
        </p:nvPicPr>
        <p:blipFill>
          <a:blip r:embed="rId1"/>
          <a:stretch/>
        </p:blipFill>
        <p:spPr>
          <a:xfrm>
            <a:off x="838080" y="919080"/>
            <a:ext cx="1905120" cy="18432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BD05160_"/>
          <p:cNvPicPr/>
          <p:nvPr/>
        </p:nvPicPr>
        <p:blipFill>
          <a:blip r:embed="rId2"/>
          <a:stretch/>
        </p:blipFill>
        <p:spPr>
          <a:xfrm>
            <a:off x="2209680" y="2438280"/>
            <a:ext cx="1981440" cy="19162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BD05172_"/>
          <p:cNvPicPr/>
          <p:nvPr/>
        </p:nvPicPr>
        <p:blipFill>
          <a:blip r:embed="rId3"/>
          <a:stretch/>
        </p:blipFill>
        <p:spPr>
          <a:xfrm>
            <a:off x="762120" y="4038480"/>
            <a:ext cx="19810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1219320" y="23623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invention and innov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R 7-2 Lesson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Knowledge/El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e related invention and innovation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are invention to innov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an important past invention or innov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219320" y="23623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invention and innov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 W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762120" y="1066680"/>
            <a:ext cx="3581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ven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cietal Imp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ialization of Fun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4648320" y="1066680"/>
            <a:ext cx="3809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tifa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toty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gineering Design 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On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inut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ril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219320" y="36576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ake out a sheet of paper!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On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inut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ril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447920" y="2666880"/>
            <a:ext cx="6933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rite the names of who you think are the three most famous inventors of all time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Times New Roman"/>
              </a:rPr>
              <a:t>STOP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On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inut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ril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219320" y="36576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t ready again!!!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ne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inute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ril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35053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rite down what they invented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Times New Roman"/>
              </a:rPr>
              <a:t>READY</a:t>
            </a:r>
            <a:endParaRPr b="0" lang="en-US" sz="1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Times New Roman"/>
              </a:rPr>
              <a:t>SET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2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ff0000"/>
                </a:solidFill>
                <a:latin typeface="Times New Roman"/>
              </a:rPr>
              <a:t>GO</a:t>
            </a:r>
            <a:endParaRPr b="0" lang="en-US" sz="2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Times New Roman"/>
              </a:rPr>
              <a:t>READY</a:t>
            </a:r>
            <a:endParaRPr b="0" lang="en-US" sz="1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Times New Roman"/>
              </a:rPr>
              <a:t>SET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1:37:09Z</dcterms:created>
  <dc:creator>Pamela J. Brown</dc:creator>
  <dc:description/>
  <dc:language>en-US</dc:language>
  <cp:lastModifiedBy>Flanders</cp:lastModifiedBy>
  <dcterms:modified xsi:type="dcterms:W3CDTF">2010-02-01T21:19:39Z</dcterms:modified>
  <cp:revision>22</cp:revision>
  <dc:subject/>
  <dc:title>INVENTION</dc:title>
</cp:coreProperties>
</file>